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2E6-66D5-45AE-A97D-07A5AEE8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D73-CB2C-4161-B449-292A0F0D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AA9-7ECF-465D-ABAC-0AAC2072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09A-918A-4AC9-9568-A3F3C34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4E3C-0107-4300-85B8-67E66234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3900-86E2-4233-BAA6-B14EF8B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804-7443-41CB-B8AF-60DB072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85A-F9B4-44D2-BFDF-BF2388D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875-5FC5-42E6-8D02-21384EA3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CE5-35D4-47BD-819F-0D103A6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BAA6-3AD0-4492-97B9-47138DF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32D-DD96-4C76-B30F-D1BA0A2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4951-E069-4357-A50C-F9572EB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399-CBA3-4E89-AB72-CE86A15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A60-DC7E-46E1-AEF9-37D29C4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AD71-CA72-4AB8-B33E-5B3B8C8B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50F3-2CB1-4597-A1D2-995C2665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0BBC-E70A-4A0B-8B65-FEDA140A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ED91-1839-4976-93B0-2FC85145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AEAE-A3AD-4117-8D41-F22DB299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3923-188D-4809-9ABC-358EAE1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51BC-6476-434E-BE7A-C3F1FEE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E5B-4FB1-4335-8C79-16EB249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C891-F32E-408B-A229-EA2E7D7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D565-0A70-4645-8962-273084B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8AF2-1552-4A68-A775-CAF83AA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8246-AE7A-4997-A59B-278CEC6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C70F-FB01-4090-A42E-D41D381F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74EF-63CD-47D6-946A-8ABFCE75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5EF4-9EBD-4121-B5A2-58D306C7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D2A35-B0D5-4693-A37D-49B010FE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5BEF-08AF-4F7C-ABBD-97177318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B8C3-5099-4687-9B4F-696F2CC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1B3-8735-45B4-A9B1-DD4AF91B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00CA-29EB-4F48-9B6A-FC36AB65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148B-3835-4565-922D-34A1850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95F6-1111-4B69-86C3-66F77CEC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78B9-838E-4665-AEC5-F921243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05C1-E1E2-4701-B08E-34179B30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D4A4-2A50-4BE7-AE22-2E6304B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E35A-11B4-48CD-80DC-2F3ADF6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B25C-7138-4C2E-9DDE-6399D3A7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FB76-46FB-4AA5-A7C0-DB5A5EEA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5EBF-03A2-4E08-BDF1-123877B2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094-6E2E-49E2-B82B-C20D29C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CE349-AD14-4FFA-8353-F551B35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616A-100D-40BF-A920-415DC2E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309E-22BC-47B0-8C72-12A369BD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CFFE-239B-4947-AAB5-BAFD2D4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0CB2-8EFD-4F4E-B910-390D315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F944-D760-462E-8980-CFEA23B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36CD-08F3-48C0-93E5-26DC64B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8A03-8F89-47A5-A4EF-7BBF8B7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3B202-237D-4C70-BC6D-A681A012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EBBF-7CFC-4594-A51B-F9ACF5EA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11D-B4DB-414F-80B0-006176E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411A-5AEB-4C0F-A0AE-F65B3002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80D3-BEAC-4757-80A4-6592ED06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3A07-4B91-4754-B633-910F2E0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1BA5-01ED-4EAC-BB27-D5F1676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2174-77DF-4F5E-B86D-852AE8E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3CF3-3DAE-4268-9819-D0A8EB91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DAEA-B156-481F-9A91-02ED621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CC91-AB73-4521-A820-86463FA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E7BE-CA3E-4755-A429-4CA6D0A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E79E-0995-4705-BB60-FCE2644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E7B-0076-45E5-8744-0D330F51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C7169-789B-42ED-BC03-A2A31C22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952E-642A-42C8-9277-D2720CF7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CB53-DEC9-416E-8CF2-BD69C391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C143-1F29-4B43-93EB-EF0705E0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A5743-0AB2-4132-98CA-E359CF4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1E0C-227C-40DC-B4BF-94E2225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831E6-8A0E-49AB-8679-28CE7BC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4C8E-0BD9-4FFE-8528-C2AEC22D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AEFD9-14D1-4A85-B3A5-923E5D1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21D6-4958-47DA-88C4-86C869E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42C-1291-4381-BB9A-FB08653C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BAC4-4FF4-442B-AF9C-9AA0C62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44AB-5BB0-4512-AE0C-AF78D9B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1AC06-58EC-41DF-9D12-99A6E9F1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8070-8B3D-425C-98B6-907942C5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8507-9734-47B9-A31A-078A766F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E45-83DB-416C-98CF-9919DE0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C77-3695-42F9-92EA-89301B35E13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41A-5024-40D1-9539-88796EECBFB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1D7C-220A-4599-BC6C-0E4C4DBA5B2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A2E1-DC2C-48B3-AEE2-90FF93E0DC6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B1D-8402-43EB-AB12-B59050C0204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839-BC39-4CB6-82DE-26687342BBF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E749-1212-4198-9689-57959C7C671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tential.org.ru/pub/Info/ArtDt200509292052PH3C1J9/1_5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potential.org.ru/Info/ArtDt200502291619PH3C2J2" TargetMode="External"/><Relationship Id="rId4" Type="http://schemas.openxmlformats.org/officeDocument/2006/relationships/hyperlink" Target="http://dic.academic.ru/dic.nsf/ruwiki/24164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93600" y="3681360"/>
            <a:ext cx="7785360" cy="1298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14280" y="3571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чебного проекта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27860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071960" y="521496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: Малышев Василий Валентино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2500200" y="6143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ыктывкар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357120" y="42876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представить информацию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Проблемный вопрос учебной тем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компьютер работает с числам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28760" y="2571840"/>
            <a:ext cx="49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ебные предметы: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математика, информати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4643280"/>
            <a:ext cx="42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астники: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9-ые класс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785880" y="28584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Дидактические це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ориентироваться в «море» информаци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навыки самостоятельной работы, работы в коман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642960" y="264312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переводить числа из десятичной системы счисления в двоичную и наоборот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умения и навыки выполнения арифметические операции над числами в двоичной запис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77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представления исследования: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Презентация – гипотез и доказательст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Буклет – интересные объекты, факты по теме исследования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3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4"/>
          <p:cNvSpPr/>
          <p:nvPr/>
        </p:nvSpPr>
        <p:spPr>
          <a:xfrm>
            <a:off x="642960" y="357120"/>
            <a:ext cx="82868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buClr>
                <a:srgbClr val="ff0000"/>
              </a:buClr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714240" y="214200"/>
            <a:ext cx="82155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2, 3 недели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Участие в игре Ни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Анализ первых результатов иг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642960" y="285840"/>
            <a:ext cx="8072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Защита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Картинка 2 из 9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3048120"/>
            <a:ext cx="4495680" cy="38098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500040" y="214200"/>
            <a:ext cx="84297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омендуемая литератур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students.ru/referats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российская коллекция рефера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abc-people.com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энциклопедия замечательных людей и иде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potential.org.ru/Info/ArtDt200502291619PH3C2J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гра "Ним", или как математики играют в игры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dic.academic.ru/dic.nsf/ruwiki/24164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м (игр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макин И.Г. Информатика и ИКТ. Учебник для 9 класса. – М: БИНОМ, 200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19:22Z</dcterms:created>
  <dc:creator>Admin</dc:creator>
  <dc:description/>
  <dc:language>en-US</dc:language>
  <cp:lastModifiedBy>Admin</cp:lastModifiedBy>
  <dcterms:modified xsi:type="dcterms:W3CDTF">2010-05-30T16:49:42Z</dcterms:modified>
  <cp:revision>10</cp:revision>
  <dc:subject/>
  <dc:title>Игра Ним</dc:title>
</cp:coreProperties>
</file>